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6CD9-BFD3-4E82-81D0-EAF170DA1E3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ACF6-8019-4F47-88BE-B960D7CB9D3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D11D-618A-4880-9114-E57D89449A6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AB2-9291-4844-AE8D-1608ACC6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871-B2A8-4CC6-82F8-E306A31B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065-212C-4716-AC17-9931F232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EBF-65D2-468B-9CD4-E4752307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A00-FBC5-4AB7-92B3-2B252185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ED4-7077-4209-A5B3-F7DB9016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1FE-3BDF-490E-A4B2-07574665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A08-75F7-4DF1-AA89-722C2F02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829-3B77-4A37-8B91-B824B4A2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180A-BEBE-4E23-A520-B7DF6B9C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902-F72F-49E5-95D8-19BE9279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A41-6FEB-4488-A416-08F5FBD5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80CF-5073-4AC6-B5F6-A85123351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tp://ftp.rfc-editor.org/in-notes/std/std7.tx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ana.org/assignments/port-numbers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tp://ftp.rfc-editor.org/in-notes/std/std6.txt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tp://ftp.rfc-editor.org/in-notes/std/std5.txt" TargetMode="External"/><Relationship Id="rId2" Type="http://schemas.openxmlformats.org/officeDocument/2006/relationships/hyperlink" Target="ftp://ftp.rfc-editor.org/in-notes/std/std5.txt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925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apter 1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Web Essentials: Clients, Servers, and 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85800" y="917640"/>
            <a:ext cx="77724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SCIENCE PERSPECTIV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REY C.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DBF8-4586-4CE8-9D96-DC172AC97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mission Control Protocol (T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tions of 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arantee of packet delivery (packets can be dropp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is one-way (source to dest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C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ds concept of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n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op of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guarantee that packets 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wo-way (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ull du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BF36-F72A-4682-9213-1F86A0D66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362320" y="1828800"/>
            <a:ext cx="152388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781680" y="1828800"/>
            <a:ext cx="152424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886200" y="19810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193280" y="16765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 talk to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 flipH="1">
            <a:off x="3885840" y="2514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4192200" y="22096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.  Can I talk to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38862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4192200" y="274320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193640" y="3505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a pa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3885840" y="6095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191840" y="57913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4193640" y="4800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a pa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4194000" y="53341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a resent pa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 flipH="1">
            <a:off x="3885840" y="43434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4191840" y="40384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2"/>
          <p:cNvSpPr/>
          <p:nvPr/>
        </p:nvSpPr>
        <p:spPr>
          <a:xfrm>
            <a:off x="3886200" y="5638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3886200" y="3809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3886200" y="51055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460080" y="205740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830240" y="1676520"/>
            <a:ext cx="52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1830240" y="3352680"/>
            <a:ext cx="52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1830240" y="4800600"/>
            <a:ext cx="52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55880" y="3657600"/>
            <a:ext cx="195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140040" y="4989600"/>
            <a:ext cx="195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nd packet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(or delay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C15D-426C-44D9-B312-C04643256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lso adds concept of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header contains port number representing an application program on the destination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ort numbers hav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andard mea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port 25 is normally used for email transmitted using the Simple Mail Transfer Protocol (SM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rt numbers are available first-come-first served to any 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9316-5B83-4A24-A301-5E1C9DD33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TCPIP"/>
          <p:cNvPicPr/>
          <p:nvPr/>
        </p:nvPicPr>
        <p:blipFill>
          <a:blip r:embed="rId1"/>
          <a:stretch/>
        </p:blipFill>
        <p:spPr>
          <a:xfrm>
            <a:off x="1447920" y="1523880"/>
            <a:ext cx="6553080" cy="416412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EE1B-3F1D-4235-8259-880B87CFE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Datagram Protocol (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D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TCP in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s on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port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ke TCP in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nnection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ransmission guaran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 of UDP vs. TC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ghtwe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o faster for one-time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105A-353F-4A42-A340-17CDBA479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Name Service (D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 is the “phone book” for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between host names and IP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 often uses UDP fo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b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arated by dots, e.g.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www.exampl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label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p-level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: .com, .or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-code: .us, .s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0174-A3A5-494B-B8BC-B470A07B0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s are divided into second-level domains, which can be further divided into subdomain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in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www.exampl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cond-level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st name plus domain name information is called 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ully qualified domain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ve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ww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host name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www.exampl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FQ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027C-57A4-4642-A28D-1EF6A487B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nslook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gram provides command-line access to DNS (on most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up a host name given an IP address is known as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verse 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single host may have mutliple IP add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returned is th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non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P address specified in the DNS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A236-4E97-45E4-A1CD-33FBCB6D7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er-level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rotocols build on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analogy: TCP specifies how we initiate and terminate the phone call, but some other protocol specifies how we carry on the actual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M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ma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ile transf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T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ransfer of Web docu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B028-DBCB-411C-B1E6-1EADD42E3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, one of several systems for organizing Internet-bas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ors: WAIS, Gopher, ARC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ctive feature of Web: support for hypertext (text containing lin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vi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ypertext Transport Proto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T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representation using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ypertext Markup Langu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T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04F3-6946-46C2-9E49-4A638F5C8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origin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PA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late 1960’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earliest attempts to network heterogeneous, geographically dispersed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first available on ARPANET in 1972 (and quickly very popular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PANE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cess was limi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elect DoD-funded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371F-E514-463B-B8BB-3C0B82210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b is the collection of machines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eb serv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n the Internet that provide information, particularly HTML documents, via HT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s that access information on the Web are known a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eb cli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eb brows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oftware used by an end user to access the We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0B2F-FACD-49EC-81C0-309266D89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ertext Transport Protocol (HTT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is based on 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quest-respon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sends a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sends a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is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ate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toco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tocol does not require the server to remember anything about the client between requ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B294-1806-4A91-B870-C42FD4538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 implemented over a TCP connection (80 is standard port number for HT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browser-server inter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enters Web address in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r uses DNS to locate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r opens TCP connection to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r sends HTTP request over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sends HTTP response to browser over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r displays body of response in 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ent 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browser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D635-907B-4AE8-97E8-5A6FA55C0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286000" y="2147760"/>
            <a:ext cx="5029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$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telnet www.example.org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rying 192.0.34.166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Connected to www.example.com (192.0.34.16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Escape character is ’^]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GET /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Host: www.exampl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HTTP/1.1 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Date: Thu, 09 Oct 2003 20:30:49 GM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906560" y="34290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840600" y="350532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906560" y="426708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841320" y="44956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824760" y="21700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2043000" y="2097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E86D-E510-4292-A01F-6EB88C352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the 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field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6CC4-B7FE-4C45-AC11-7788E2897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the 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field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A6DA-058A-4E47-BEC5-9EE81B260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GET / HTTP/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pace-separated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reque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-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B7AB-11B5-4042-8EE8-9E3371A70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GET / HTTP/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pace-separated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reque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-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cover 1.1, in which version part of start line must be exactly as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5988-0F8E-4C19-952C-249322132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GET / HTTP/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pace-separated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reque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-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0B86-B677-4777-A67B-997676900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niform Resource Identif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Typewriter"/>
              </a:rPr>
              <a:t>scheme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Typewriter"/>
              </a:rPr>
              <a:t>scheme-depend-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http://www.example.com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che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quest-U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ortion of the requested URI that follows the host name (which is supplied by the required Host header fie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quest-URI portion of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http://www.exampl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14B0-FC96-445B-803D-582ACC9B5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-acces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g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versity networks (e.g., SURA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S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S departments not on ARP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FNET (1985-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purpose: connect supercomputer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purpose: provid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ackb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nnect region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3446-A8D0-4885-B434-EBF5C8677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’s are of two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iform Resource 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U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identify resources with unique names, such as books (which have unique ISBN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e is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iform Resource 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U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es location at which a resource can b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ht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me other URL schemes are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htt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f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mail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730B-0B55-4A6F-A173-7DC538B2D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GET / HTTP/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pace-separated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 reque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-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F776-B3EE-4D64-9A33-4D77406A6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request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f link is clicked or address typed in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ody in request with GE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hen submit button is clicked on a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information contained in body of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s that only header fields (no body) be returned in th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E098-6087-4224-BD83-52F42190C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the 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er field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F4B2-CCED-4F33-9EAF-E55489E60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er fiel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Typewriter"/>
              </a:rPr>
              <a:t>field name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Typewriter"/>
              </a:rPr>
              <a:t>fiel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eld 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case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eld 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continue on multiple lines by starting continuation lines with whit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values may contai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IME typ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ality valu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ildcard charac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*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96B0-6CBD-4BF0-9088-7C077540E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urpose Internet Mail Extensions (MIM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 for specifying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tent 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TTP, typically used to specify content type of the body of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E content type 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Typewriter"/>
              </a:rPr>
              <a:t>top-level type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Typewriter"/>
              </a:rPr>
              <a:t>sub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text/html, image/jp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444D-A373-46A3-BA34-84C465A01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 Quality Values and Wildc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header field with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quality val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accep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  text/xml,text/html;q=0.9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  text/plain;q=0.8, image/jpeg,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  image/gif;q=0.2,*/*;q=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value applies to all preceding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the value, higher the p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use of wildcards to specify quality 0.1 for any MIME type not specified ear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95DD-96DB-4B9A-A363-2845358F8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eader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st name from URL (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r-A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ype of browser sending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ME types of acceptabl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value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cl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server to close connection after single request/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ent-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ME type of (POST) body, normally application/x-www-form-urlenco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ent-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ytes i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fe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RL of document containing link that supplied URI for this HTTP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276F-4D1F-494E-8FEE-11A63DA65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HTTP Re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457200" y="2000160"/>
            <a:ext cx="82296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HTTP Re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36400" y="1752480"/>
            <a:ext cx="8071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NSFNetBackbone"/>
          <p:cNvPicPr/>
          <p:nvPr/>
        </p:nvPicPr>
        <p:blipFill>
          <a:blip r:embed="rId1"/>
          <a:stretch/>
        </p:blipFill>
        <p:spPr>
          <a:xfrm>
            <a:off x="1600200" y="1905120"/>
            <a:ext cx="6210360" cy="410976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3F29-19D2-4A0E-B676-D743B18D7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the respo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field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4FF4-DB22-4ACB-A5BF-934E44C86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the respo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field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825A-B2ED-46C1-BC1A-21B966404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HTTP/1.1 200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pace-separated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ver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 phrase (intended for human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27C3-F395-4DC6-91E3-72F5295AC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digi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digit is class of the status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=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=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=Redirection (alternate URL is suppli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=Client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=Server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wo digits provide addition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6158-08AB-4878-B136-76FE59418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the respo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er field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C0F5-4615-4872-96AD-15FE82B40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eader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ent-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ent-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ate and time at which response was generated (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ternate URI if status is re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st-Mod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ate and time the requested resource was last modified on th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pi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ate and time after which the client’s copy of the resource will be out-of-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T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unique identifier for this version of the requested resource (changes if resourc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FAE1-6FA1-4AE0-ACCF-9BA5481D1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 C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a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local copy of information obtained from some other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eb browsers use cache to store requested resources so that subsequent requests to the same resource will not necessarily require an HTTP request/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icon appearing multiple times in a Web 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DBCB-840F-4BCD-A162-AEBB5E224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 C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33520" y="2057400"/>
            <a:ext cx="144756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6781680" y="2057400"/>
            <a:ext cx="14479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2057400" y="22860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2593080" y="19810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HTTP request for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 flipH="1">
            <a:off x="2057040" y="28195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2595240" y="2514600"/>
            <a:ext cx="38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HTTP response containing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152280" y="1523880"/>
            <a:ext cx="221004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764640" y="1143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6400800" y="1447920"/>
            <a:ext cx="220968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996600" y="1103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685800" y="5257800"/>
            <a:ext cx="1143000" cy="99072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76212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748800" y="476100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tor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3A5D-5262-4363-BBA1-E9ABF56A0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 C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533520" y="2057400"/>
            <a:ext cx="144756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6781680" y="2057400"/>
            <a:ext cx="14479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152280" y="1523880"/>
            <a:ext cx="221004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764640" y="1143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6400800" y="1447920"/>
            <a:ext cx="220968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6996600" y="1103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685800" y="5257800"/>
            <a:ext cx="1143000" cy="99072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670680" y="3618000"/>
            <a:ext cx="132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need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i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8B7A-596F-461C-AF2D-97C1523F0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 C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533520" y="2057400"/>
            <a:ext cx="144756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6781680" y="2057400"/>
            <a:ext cx="14479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52280" y="1523880"/>
            <a:ext cx="221004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764640" y="1143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6400800" y="1447920"/>
            <a:ext cx="220968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996600" y="1103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9"/>
          <p:cNvSpPr/>
          <p:nvPr/>
        </p:nvSpPr>
        <p:spPr>
          <a:xfrm>
            <a:off x="685800" y="5257800"/>
            <a:ext cx="1143000" cy="99072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671760" y="361800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need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2057400" y="32767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2593080" y="29718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for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 flipH="1">
            <a:off x="2057040" y="38098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2595600" y="350532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 containing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337920" y="22464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3F49-4E78-460B-86F4-636025F78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ter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network of networks connected via the public backbone and communicating using TCP/IP communication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bone initially supplied by NSFNET, privately funded (ISP fees) beginning in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A27A-5B42-41E2-8392-5AE0EE1D4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 C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533520" y="2057400"/>
            <a:ext cx="144756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781680" y="2057400"/>
            <a:ext cx="14479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2280" y="1523880"/>
            <a:ext cx="221004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764640" y="1143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6400800" y="1447920"/>
            <a:ext cx="220968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6996600" y="1103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685800" y="5257800"/>
            <a:ext cx="1143000" cy="99072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671760" y="361800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need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12193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67560" y="476100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2347200" y="47610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8169-60DC-4379-9701-D40E715E0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 C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he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uch) faster than HTTP request/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network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load o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he dis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d copy of resource may b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val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consistent with remote ver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764F-FC8F-43DD-9D93-8D7E8B777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document is represented by a string of integer values (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de po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pping from code points to characters is defined by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haracter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header fields have character set val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pt-Char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quest header listing character sets that the client can recogn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accept-charset: ISO-8859-1,utf-8;q=0.7,*;q=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ent-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an include character set used to represent the body of the HTTP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Content-Type: text/html; charset=UTF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470C-6ED6-487F-89C8-4382F7E09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Cl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ossible web cli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-only “browser” (lyn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ph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obo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oftware-only clients, e.g., search engine “crawler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focus on traditional web brow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B6BB-C48A-41D0-B767-1E6746E3F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Brow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t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web addresses (URL’s) to HTTP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with web servers via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n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ppropriately display) documents returned by a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8BC2-B181-4BBC-8244-9AF2C5C1D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URL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r uses authority to connect via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-URI included in start line (/ used for path if none suppli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 identifier not sent to server (used to scroll browser client a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376280" y="1676520"/>
            <a:ext cx="64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xample.org:</a:t>
            </a: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56789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/a/b/c.t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=win&amp;s=ch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para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1981080" y="1981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28195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2135520" y="220968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(FQD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8"/>
          <p:cNvSpPr/>
          <p:nvPr/>
        </p:nvSpPr>
        <p:spPr>
          <a:xfrm>
            <a:off x="3886200" y="1981080"/>
            <a:ext cx="60948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9"/>
          <p:cNvSpPr/>
          <p:nvPr/>
        </p:nvSpPr>
        <p:spPr>
          <a:xfrm>
            <a:off x="4191120" y="1981080"/>
            <a:ext cx="0" cy="30492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3872160" y="21700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1"/>
          <p:cNvSpPr/>
          <p:nvPr/>
        </p:nvSpPr>
        <p:spPr>
          <a:xfrm>
            <a:off x="2057400" y="2666880"/>
            <a:ext cx="243828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2745720" y="26668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3"/>
          <p:cNvSpPr/>
          <p:nvPr/>
        </p:nvSpPr>
        <p:spPr>
          <a:xfrm>
            <a:off x="4572000" y="19810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4952880" y="19810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4710600" y="217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6"/>
          <p:cNvSpPr/>
          <p:nvPr/>
        </p:nvSpPr>
        <p:spPr>
          <a:xfrm>
            <a:off x="5562720" y="1981080"/>
            <a:ext cx="144756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6248520" y="198108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5869800" y="2209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9"/>
          <p:cNvSpPr/>
          <p:nvPr/>
        </p:nvSpPr>
        <p:spPr>
          <a:xfrm>
            <a:off x="7238880" y="1981080"/>
            <a:ext cx="5335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>
            <a:off x="7467480" y="1981080"/>
            <a:ext cx="0" cy="3049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1"/>
          <p:cNvSpPr/>
          <p:nvPr/>
        </p:nvSpPr>
        <p:spPr>
          <a:xfrm>
            <a:off x="7012440" y="22096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fra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2"/>
          <p:cNvSpPr/>
          <p:nvPr/>
        </p:nvSpPr>
        <p:spPr>
          <a:xfrm>
            <a:off x="4572000" y="2666880"/>
            <a:ext cx="2514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5168520" y="262728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quest-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0526-1458-487A-9736-9361A9C07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functiona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HTTP request via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Host header to specific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irtual hos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ne of many host names sharing an IP add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Request-URI to specific resource associated with the virtual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: Return file in HTTP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: Run program and return output in HTTP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ype of resource to appropriate MIME type and use to set Content-Type header in HTTP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information about the request and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75EA-E89B-4C8D-8BCC-63A1A92BA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d: UIUC, primary Web server c.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che: “A patchy” version of httpd, now the most popular server (esp. on Linux platfo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S: Microsoft Internet Informatio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ca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atalina) for running Jav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rvl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TML-generating programs) as back-end to Apache or I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un stand-alone using Coyote HTTP front-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C852-3EC9-4BBA-AD3F-2CEBCCE39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cat Web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ML-based server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 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http://localhost:808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lick on Server Administration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localh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pecial host name that means “this mach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BB9F-AAA9-400A-BDAE-3D51CB510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cat Web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TomcatAdmin"/>
          <p:cNvPicPr/>
          <p:nvPr/>
        </p:nvPicPr>
        <p:blipFill>
          <a:blip r:embed="rId1"/>
          <a:stretch/>
        </p:blipFill>
        <p:spPr>
          <a:xfrm>
            <a:off x="1200240" y="1371600"/>
            <a:ext cx="6743520" cy="4114800"/>
          </a:xfrm>
          <a:prstGeom prst="rect">
            <a:avLst/>
          </a:prstGeom>
          <a:ln w="0">
            <a:noFill/>
          </a:ln>
        </p:spPr>
      </p:pic>
      <p:sp>
        <p:nvSpPr>
          <p:cNvPr id="3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A218-3E17-4402-9ABC-E460EC0CD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mmunication protoc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ow computers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. telephone “protocol”: how you answer and end call, what language you spea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protocols developed as part of ARPANE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PANET began using TCP/IP in 19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both within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ocal area networ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LAN’s) and between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4A30-C550-4347-901B-2E0B04C7C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e Ser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HTTP messages typically travel over a public network, private information (such as credit card numbers) should b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ncryp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reven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avesdr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tt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RL scheme tells browser to use 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encryption stand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Socket Layer (SS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Layer Security (T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20BB-B607-4936-8E0A-DDD0A5BEB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e Ser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04920" y="1447920"/>
            <a:ext cx="106668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7543800" y="1447920"/>
            <a:ext cx="137160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>
            <a:off x="1905120" y="16765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2045160" y="133200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d like to talk securely to you (over port 4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"/>
          <p:cNvSpPr/>
          <p:nvPr/>
        </p:nvSpPr>
        <p:spPr>
          <a:xfrm flipH="1">
            <a:off x="1904760" y="22860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2045880" y="1941480"/>
            <a:ext cx="43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my certificate and encryp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>
            <a:off x="1905120" y="32767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2061000" y="289548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an encrypted HTTP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2"/>
          <p:cNvSpPr/>
          <p:nvPr/>
        </p:nvSpPr>
        <p:spPr>
          <a:xfrm flipH="1">
            <a:off x="1904760" y="38862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2045880" y="354168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an encrypted HTTP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>
            <a:off x="1905120" y="50292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2061000" y="464832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an encrypted HTTP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6"/>
          <p:cNvSpPr/>
          <p:nvPr/>
        </p:nvSpPr>
        <p:spPr>
          <a:xfrm flipH="1">
            <a:off x="1904760" y="56386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2045880" y="529416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an encrypted HTTP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371600" y="1447920"/>
            <a:ext cx="53352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S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7086600" y="1447920"/>
            <a:ext cx="53352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S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0"/>
          <p:cNvSpPr/>
          <p:nvPr/>
        </p:nvSpPr>
        <p:spPr>
          <a:xfrm>
            <a:off x="9907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1"/>
          <p:cNvSpPr/>
          <p:nvPr/>
        </p:nvSpPr>
        <p:spPr>
          <a:xfrm>
            <a:off x="307440" y="19810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2"/>
          <p:cNvSpPr/>
          <p:nvPr/>
        </p:nvSpPr>
        <p:spPr>
          <a:xfrm flipH="1">
            <a:off x="91404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291960" y="491328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4"/>
          <p:cNvSpPr/>
          <p:nvPr/>
        </p:nvSpPr>
        <p:spPr>
          <a:xfrm>
            <a:off x="7391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7698960" y="190512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731484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7623000" y="495288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B51D-E835-4C57-9898-D4B8AC732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e Serv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-in-the-Middle Att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1905120" y="3886200"/>
            <a:ext cx="160020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1905120" y="1905120"/>
            <a:ext cx="16002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6"/>
          <p:cNvSpPr/>
          <p:nvPr/>
        </p:nvSpPr>
        <p:spPr>
          <a:xfrm flipV="1">
            <a:off x="251460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61160" y="2971800"/>
            <a:ext cx="21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xample.or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8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593080" y="3276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.1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4724280" y="1905120"/>
            <a:ext cx="22860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exampl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.1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4800600" y="3886200"/>
            <a:ext cx="220968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xampl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3505320" y="2437920"/>
            <a:ext cx="121896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4101840" y="331308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credit card number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B6D6-8BE9-4C04-AA61-8995B55DA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e Serv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venting Man-in-the-Midd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1905120" y="3886200"/>
            <a:ext cx="160020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1905120" y="1905120"/>
            <a:ext cx="16002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"/>
          <p:cNvSpPr/>
          <p:nvPr/>
        </p:nvSpPr>
        <p:spPr>
          <a:xfrm flipV="1">
            <a:off x="251460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461160" y="2971800"/>
            <a:ext cx="21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xample.or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2593080" y="3276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.1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4724280" y="1905120"/>
            <a:ext cx="22860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exampl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.1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4800600" y="3886200"/>
            <a:ext cx="220968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xampl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 flipV="1">
            <a:off x="3505320" y="2437920"/>
            <a:ext cx="121896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100040" y="3313080"/>
            <a:ext cx="36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me a certificate of 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6DD3-10E3-48BB-A834-FBD7EB4AD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fundamental protocol defining the Internet (as the name implie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-bit number (i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Pv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with at most one device at a time (although device may have more than 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as four dot-separated bytes, e.g. 192.0.34.1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9C50-29E5-4B0E-A289-3C5E9A1BB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function: transfer data from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vice to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st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source software creates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ck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ing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ource and destination IP addresses, length of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estination is on another LAN, packet is sent to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ate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onnects to more than on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8A5E-70F8-4A92-8ED1-1853081F4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62120" y="2057400"/>
            <a:ext cx="12189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2514600" y="3657600"/>
            <a:ext cx="12193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loud"/>
          <p:cNvSpPr/>
          <p:nvPr/>
        </p:nvSpPr>
        <p:spPr>
          <a:xfrm>
            <a:off x="1219320" y="3429000"/>
            <a:ext cx="4267080" cy="2859120"/>
          </a:xfrm>
          <a:custGeom>
            <a:avLst/>
            <a:gdLst>
              <a:gd name="textAreaLeft" fmla="*/ 587880 w 4267080"/>
              <a:gd name="textAreaRight" fmla="*/ 3375720 w 4267080"/>
              <a:gd name="textAreaTop" fmla="*/ 431640 h 2859120"/>
              <a:gd name="textAreaBottom" fmla="*/ 2295000 h 28591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1295280" y="274320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loud"/>
          <p:cNvSpPr/>
          <p:nvPr/>
        </p:nvSpPr>
        <p:spPr>
          <a:xfrm>
            <a:off x="152280" y="1677960"/>
            <a:ext cx="4724640" cy="3165480"/>
          </a:xfrm>
          <a:custGeom>
            <a:avLst/>
            <a:gdLst>
              <a:gd name="textAreaLeft" fmla="*/ 650880 w 4724640"/>
              <a:gd name="textAreaRight" fmla="*/ 3737520 w 4724640"/>
              <a:gd name="textAreaTop" fmla="*/ 478080 h 3165480"/>
              <a:gd name="textAreaBottom" fmla="*/ 2540880 h 31654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loud"/>
          <p:cNvSpPr/>
          <p:nvPr/>
        </p:nvSpPr>
        <p:spPr>
          <a:xfrm>
            <a:off x="4724280" y="3200400"/>
            <a:ext cx="3733920" cy="2960640"/>
          </a:xfrm>
          <a:custGeom>
            <a:avLst/>
            <a:gdLst>
              <a:gd name="textAreaLeft" fmla="*/ 514440 w 3733920"/>
              <a:gd name="textAreaRight" fmla="*/ 2953800 w 3733920"/>
              <a:gd name="textAreaTop" fmla="*/ 447120 h 2960640"/>
              <a:gd name="textAreaBottom" fmla="*/ 2376360 h 2960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4495680" y="4495680"/>
            <a:ext cx="12193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3124080" y="42670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2349000" y="27795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349000" y="51418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6858000" y="3733920"/>
            <a:ext cx="1219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V="1">
            <a:off x="5715000" y="40381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778000" y="50655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2BC1-9943-452A-8063-56CAD8616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49:08Z</dcterms:created>
  <dc:creator>Duquesne University</dc:creator>
  <dc:description/>
  <dc:language>en-US</dc:language>
  <cp:lastModifiedBy>user</cp:lastModifiedBy>
  <dcterms:modified xsi:type="dcterms:W3CDTF">2017-09-25T09:28:57Z</dcterms:modified>
  <cp:revision>41</cp:revision>
  <dc:subject/>
  <dc:title>Web Essentials</dc:title>
</cp:coreProperties>
</file>